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9D4-3DA8-4DBD-8FDA-99044DA9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853-FA71-4FCD-AB24-AAC0A612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D18-6E42-4C91-A636-F3FF69FE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4A1-68CA-461A-9ABE-8A23D60C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3F28-E9B9-4415-BD67-E56E89F2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9E47-8995-4A4E-9CD0-D61517A3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C36-55F2-4A2D-B710-C3D5726B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8680-2FD5-48DB-B849-1584F51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A50-9E50-4ADA-8F10-DAC78E9A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5780-2EBC-4F3A-9B9F-F8B66F21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C580-1B8F-49B2-B04C-0013DD8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9D9-3089-4904-A371-04208C08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412-4AAB-4FA4-9D7F-B70BC72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990B-4170-47EC-8867-2D2DFBC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1523-0C5D-43F1-B1A8-6132208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A7C4-ACF6-4F8C-8FA2-56620216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D6FF-3C9E-4FC6-9E9C-4B42A380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E466-A68E-4753-BA99-21719BA4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6FD2-A14E-4C68-AECB-98468C5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70FA-3889-41FB-9569-7266438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FF83-263B-4543-8537-1E31A8F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943C-3CAE-4BDA-9700-A3450469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504-7D1A-4357-B950-FEC2793C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EC3A7-335A-429C-B762-81D5A40E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C51D-0FDA-493E-AB61-8BE1E85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7FBF-68C0-48FA-82A9-BEFFD9E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7081-0435-446B-A980-ADFF962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1178-D73F-4A4D-BAAC-93B55006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FFBA-0822-4FBF-9576-DD8C0026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FABE-0A70-42D6-8C00-57948030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F1B-E020-42B5-AB19-6C30A835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6B6-0DD5-450C-89EF-F8378BC1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9E3-1702-44B6-A469-2E617E8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C14-61A7-4FA7-A0E0-A68C972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9E1-1D94-4329-9B76-83B4708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125-B58A-4BA1-9EE6-FFD0E16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D272-06E1-4078-A020-DA30DB713F2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EBB-A398-489B-9826-5FB96B3CD182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35F1-4E55-4B01-8F2C-66DDB56EFDF8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314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Experiences: Systematic confusion?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600" y="2352240"/>
            <a:ext cx="808992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licy: experience to date is that in the absence of policy framework, confusion and lack of clarity – Is ‘LRRD’ a general principle or a specific procedure to be triggered? Who decides whether a state is ‘fragile’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ategy: How are resourcing decisions generated / agreed? Resources determined by comparative advantag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esign: – how we use the money?: E.g. call for proposals –preparing the guidelines to include area targeting (VAM), who to involve to ensure synchronization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ation: Selection of partners, timing – synchronization can be a constraint, coordination left to staff initi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1120"/>
            <a:ext cx="77868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Best Practices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5520" y="21477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licy: Good to have a joined up food assistance / food security policy framework – to be replicated by other sectors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ategy: E.g. Thailand ECHO support for refugees, EU livelihoods. Challenge and opportunity to join up livelihood strategies as a common ground. E.g. investments in market analysis starting up. Participation in management meeting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esign: Capacity building / policy development initiatives at country level an important opportunity for LRRD / DRR e.g. seed Afghanistan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ation: Joint evaluation of CfP with ECHO TA and joint monitoring mission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57000"/>
            <a:ext cx="77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Verdana"/>
              </a:rPr>
              <a:t>HQ actions: Transition…to a more systematic approach </a:t>
            </a:r>
            <a:endParaRPr b="1" lang="en-US" sz="20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3367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licy: LRRD Policy Framework – (and staff working paper for dummies please.) Member States…donor coordination a prior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ategy: Consultative process between different instruments to agree on case by case approach evidence based (Delegations and COs/RSOs involved)…but clear guidelines on process required to ensure meaningful strategy. But how does LRRD timeframe fit with CSP cycle? Need to build in LRRD. IfS? What is ‘LRRD’ Budget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esign: QSG should do justice to LRRD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ation: Ensure country level in loop (FF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3480" y="1696680"/>
            <a:ext cx="7786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Humanitarian/Development Strategic FW?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3749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F COURSE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9T11:59:18Z</dcterms:modified>
  <cp:revision>860</cp:revision>
  <dc:subject/>
  <dc:title>No Slide Title</dc:title>
</cp:coreProperties>
</file>